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AFE-0C0E-4899-AA58-780C9464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C0FB-ED2F-4C87-84C4-9AE859C3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997-B1ED-4654-BEB4-45FE4E25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B133-D438-4525-BC1E-2B2C5B1E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9FD-4C6E-40E1-9C29-C619B778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A2F7-89E1-4FC9-9994-69A41BF8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7450-1FF5-41C2-8655-811D681C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01E-783A-4D81-A4F6-028821DC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F94A-B338-4433-8594-AC3A8946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B70E-88BC-4693-90CB-7F1383FD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61DA-92BC-49A7-B9D8-C1CD2BB2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A8A-DA5D-4F0E-B147-C5A1978F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0134-E538-4A7F-8662-399BCF178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274680"/>
            <a:ext cx="69138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cc"/>
                </a:solidFill>
                <a:latin typeface="Bookman Old Style"/>
              </a:rPr>
              <a:t>               </a:t>
            </a:r>
            <a:r>
              <a:rPr b="1" lang="bg-BG" sz="4400" spc="-1" strike="noStrike">
                <a:solidFill>
                  <a:srgbClr val="ff99cc"/>
                </a:solidFill>
                <a:latin typeface="Bookman Old Style"/>
              </a:rPr>
              <a:t>83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Със добрите си дела светете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разгласявайте вестта;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със светило вий се украсете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за да срещнете Хрис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9440"/>
            <a:ext cx="914400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0000"/>
                </a:solidFill>
                <a:latin typeface="Bookman Old Style"/>
              </a:rPr>
              <a:t>Припе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"Будни бъдете!" - Господ реч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Побързайте всички сег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Той ще ни вземе скоро веч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в Своята свята зем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1280880" y="1627200"/>
            <a:ext cx="992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Бдете и молете се във всек час,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пристъпете при Христа,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кат чада на своя благ и мил Спас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вий измийте се в кръв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9440"/>
            <a:ext cx="914400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0000"/>
                </a:solidFill>
                <a:latin typeface="Bookman Old Style"/>
              </a:rPr>
              <a:t>Припе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"Будни бъдете!" - Господ реч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Побързайте всички сег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Той ще ни вземе скоро веч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в Своята свята зем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36360" y="-27000"/>
            <a:ext cx="9180360" cy="81378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Бдете, вярвайте, бъдете точни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ози свят докато трай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окат славата Христова почне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в вечността, в небесний р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9440"/>
            <a:ext cx="914400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0000"/>
                </a:solidFill>
                <a:latin typeface="Bookman Old Style"/>
              </a:rPr>
              <a:t>Припе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"Будни бъдете!" - Господ реч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Побързайте всички сег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Той ще ни вземе скоро веч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в Своята свята зем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00:54:09Z</dcterms:created>
  <dc:creator>TrifonTrifonow</dc:creator>
  <dc:description/>
  <dc:language>en-US</dc:language>
  <cp:lastModifiedBy>TrifonTrifonow</cp:lastModifiedBy>
  <dcterms:modified xsi:type="dcterms:W3CDTF">2005-11-22T07:41:59Z</dcterms:modified>
  <cp:revision>11</cp:revision>
  <dc:subject/>
  <dc:title>Slide 1</dc:title>
</cp:coreProperties>
</file>